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617-72C8-4BA4-B9D8-CFFD91EB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1CD3-0EBF-4A0C-88E4-A9777E24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44A-1066-4838-8A0D-4103D239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7A5-193E-43B7-9D0A-191C4804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6275-5116-463B-AAB9-ABBD933E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1C03-4CA3-49CE-ACB2-C0B6CAFD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3D5D-B14E-4607-98B6-27C0D35F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0A2A-A4D5-4FA3-960B-73A0ECB1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FE11-3B56-47C8-B518-03AD4EC5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A8A5-5F8E-4AE9-A11A-2661D924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60DE-ECCA-4D0C-A640-8A7092DE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6E69-123F-4DD7-92A5-745933FC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1F82-1562-4122-ABEE-085EE989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05EA-861D-4EB3-870C-AD4FE040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8AE3-CB95-402F-A726-78C848BE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8DA1-7C94-4E0F-A4CB-C8430997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E2F4-A228-4ADF-9994-75DF93E5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3A5-BE80-4D51-A89C-27F2E440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FF8F-73A7-44E7-AA9E-798972ED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1D2E-1325-40A1-9598-5561A0BA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02EC-8D1E-4E4D-9447-F7E39BC6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0FBB-8B70-461B-9A6C-057C636E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5215-9D2E-4004-A938-CDE5753E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604-1B48-45D2-A0FB-58508123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A1C9-B0E1-40E0-BF58-9F4B05115E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28DD-D356-4F0E-B505-7252909311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839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Papyrus"/>
              </a:rPr>
              <a:t>“</a:t>
            </a:r>
            <a:r>
              <a:rPr b="0" lang="en-US" sz="5400" spc="-1" strike="noStrike">
                <a:solidFill>
                  <a:srgbClr val="330033"/>
                </a:solidFill>
                <a:latin typeface="Papyrus"/>
              </a:rPr>
              <a:t>Don’t Give Up the Ship”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pyrus"/>
              </a:rPr>
              <a:t>The War of 18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9960" y="6172200"/>
            <a:ext cx="47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izabeth A. Pilla, Fontbonne Acade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“</a:t>
            </a: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Mr. Madison’s War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easily won election in 18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Jefferson left him with Non-Intercourse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no trade with Britain or France until they rescinded orders against American shi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Macon’s Bill No. 2 passed 18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trade resumed but could reimpose embargo against country not agreeing to stop interfering with American shipp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“</a:t>
            </a: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Mr. Madison’s War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Napoleon repealed orders against American shi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Britain did not and continued impr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Madison reimposed embargo on Britain 18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86200" y="2057400"/>
            <a:ext cx="14349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Indian Op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400,000 white settlers west of Appalach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Indian population dec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assimilation (loss of cul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civilization” (assuming white ways of li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Creek, Cherok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Major Ridge, John 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nativism” (eliminate European influences, resist further white encroachment on Indian l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21337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Indian Op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Benjamin Hawk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Superintendent of Indian Affairs 1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promoted “civilization” among Ind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supplied Indians with agricultural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married a Creek w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21337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Indian Op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2133720" cy="176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5667480" cy="3701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318760" y="601992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Hawkins trading with the Creek Ind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Indian “Age of Prophecy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Revive Indian life and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Creek, Cherokee, Shawnee, Iroqu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Handsome Lake (Sene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moral life, education, f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no direct challenge to wh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324480" y="335268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Indian “Age of Prophecy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Tenskwatawa (“The Prophet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Shawn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separate from whites (source of all ev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reject all American goods and 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revive traditional Indian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resist federal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home at Prophetstown, Indiana destroyed by William Henry Harrison in Battle of Tippecano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266076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Indian “Age of Prophecy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Tecumseh (brother of Tenskwataw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Indians of Mississippi Valley must u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alternative was extermination by wh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a common and equal right in the lan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advocated attacks on American frontier settl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became general in British 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killed 1813 at Battle of the Thames (Detroit), Harrison’s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867280" y="1676520"/>
            <a:ext cx="2276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Course of the Wa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Course of the Wa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“</a:t>
            </a: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Old Ironsides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3373200" cy="2760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257800" y="3276720"/>
            <a:ext cx="3035160" cy="2776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431080" y="50292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97560" y="61722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Consequences of the Wa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Consequences of the Wa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“</a:t>
            </a: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Old Ironsides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a wooden-hulled, three-masted heavy fri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named by President Washington after th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Paul Revere worked on her brass fi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he world's oldest floating commissioned naval vessel (17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built in Bo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provided protection for American merchant shipping during the quasi-war  with France and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fought against Barbary pi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22669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“</a:t>
            </a: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Old Ironsides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46160"/>
            <a:ext cx="80010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fought in War of 1812, captured numerous merchant ships and defeated five British warships, including HMS Guerr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in 1997 she sailed again under her own power for her 200th birth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Papyrus"/>
              </a:rPr>
              <a:t> Constitution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's mission today is to promote understanding of the Navy’s role in war and peace through educational outreach, historic demonstration, and active participation in public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berthed at Pier 1 of the former Charlestown Navy Yard at one end of Boston's Freedom Tr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22669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Images of the War of 1812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00720" cy="3895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42760" y="5829480"/>
            <a:ext cx="55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Madison punching John Bull (England) in the 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Images of the War of 1812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601800" cy="4624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39840" y="6286680"/>
            <a:ext cx="68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Francis Scott Key looking across at the flag over Fort McHen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Images of the War of 1812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886360" cy="3703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08840" y="5715000"/>
            <a:ext cx="57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Naval battle between England and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Causes of the Wa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harrassment of American shipping by Britain and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impressment of Americans by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British incitement of the Indians on the front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00400" y="5057640"/>
            <a:ext cx="2543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Causes of the Wa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American land hu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American eyes on Canada and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war hawks” (Clay and Calho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national p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free trade (needed by agrarian republ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3493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2:30:02Z</dcterms:created>
  <dc:creator>epilla</dc:creator>
  <dc:description/>
  <dc:language>en-US</dc:language>
  <cp:lastModifiedBy>epilla</cp:lastModifiedBy>
  <dcterms:modified xsi:type="dcterms:W3CDTF">2011-03-24T22:02:13Z</dcterms:modified>
  <cp:revision>11</cp:revision>
  <dc:subject/>
  <dc:title>The 1950s</dc:title>
</cp:coreProperties>
</file>